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A9E7-5CAD-4ACC-B190-1745B3CF8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A2B7-3493-409D-B3D4-F6D0AB90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9F9A-F0E6-4B50-AA46-E8ECB5DE4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4153-2753-4F74-B136-8AFB207FE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2732-66BC-46F9-81DE-937CA8F64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E84D1-CD5D-4068-B0BC-7196F638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0940-7A97-4EFF-8EAF-966FFE35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D536-3B72-4045-B5C9-B546AE75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5616-077A-4382-B485-0645F5D2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A71A-6255-4934-828B-A43ECF33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E1DC-99F8-425B-8262-CC42EFC4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EAB9-FBC4-4457-B94A-97214548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C303-6001-4570-80EC-BDF3EAF5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8D67-2070-406C-9536-AB8761CB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5065-B740-4A85-95CC-E428A278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BED5-0889-449E-8397-20F7EA447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E55E-984E-4060-8DCC-B004B8B66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B375-8B45-49AB-8551-BE9AA575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4B15-41B5-49F2-8081-CF32C994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6CC8-C739-4834-9ECE-B5729C2F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104C-F190-4A4E-AE30-44F85A03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C690-500E-413B-8886-56370898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E1B3-277E-45DF-B035-01ADD0E4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8B77-63AB-4527-A5D5-0EF51EE0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EE18-7E61-4400-8E55-B30B9A89A24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1A0D-FFBE-47C8-9D95-585DB96410B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453040" y="617400"/>
            <a:ext cx="52844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Romance morisc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Romance de Zulema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el Alhmbra a medianoch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sale gallardo Zulema,[Sulaiman =Salomón]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iego de cólera y celos, si acaso los celos ciegan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Bajaba el valiente mor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e noche , por ver si en ell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puede con su oscurida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ar lumbre a cierta sospecha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e que su querida Zar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mora  hermosa, discret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alma de su pensamiento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la fe y palabra le quiebra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Tenía celos el moro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el alcaide de Marbella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que en Granada residía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porque su calle pasea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457720" y="474840"/>
            <a:ext cx="3338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uanto lleva en el vestid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va publicando su pena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Que quiere ya publicalla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lo diga su librea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La marlota, verde oscura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señal de esperanza muerta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e una cadena bordad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llevaba fija esta letra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Mi esperanza cautivé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como se vio sujet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udando de su rescat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vino a morir en cadena”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l bonete, carmesí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en él una pluma negr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por letra: “Mi alegrí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ompite con mi tristeza”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aballo rucio rodado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escrito entrambas riendas: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627280" y="260280"/>
            <a:ext cx="403236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Ha rodado por mi alm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e mi fortuna la rueda”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n el campo del adarg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llevaba una calaver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un mote en la frente escrito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n que dice: “Ya estoy cerca”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un borceguí datilado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orado sólo la vuelt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que dice: “Si vuelta está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ifícil será volvella”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Una banderilla azu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n una lanza jinet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dice la letra: “Celos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hincádsela hasta que muera”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eñido un dorado alfanje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orado jaez y espuelas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toca dorada al brazo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Que es de su Zara la empresa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895480" y="333360"/>
            <a:ext cx="383724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Llegado al sitio y lug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adónde su amada prend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vivía, aunque en sus entraña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tiene morada más ciert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vio la ventana cerrad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por no volver sin vell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on el cuento de la lanz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io un pequeño golpe en ella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Su dama, que descuidada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staba de la novel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por un pequeño postig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se asomó por ver quién era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No le conoció tan presto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stando un rato suspensa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Zulema picó caballo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allegándose más cerc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iciéndole: -¡Sol del mundo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que en los ojos reverberas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673360" y="762120"/>
            <a:ext cx="35229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Abrid toda la ventan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esterraréis las tinieblas!-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lla , que le conoció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le dijo: -Amado Zulem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se nombre es propio vuestro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o luna basta que se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que sabéis que a la lun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l sol su lumbre le presta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si acaso tengo algun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la recibo de la vuestra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Zulema le dijo:-¡Ay, Zar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uánto vale en el alma me pes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e que te cuadre ese nom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e luna , que yo sol sea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porque la luna en el cielo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viendo el sol en su presenci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no da de sí luz ningun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señal que de ello le pesa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673720" y="617400"/>
            <a:ext cx="34268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cuando se alegra má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s cuando su sol se ausenta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creo que tú lo imita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n esto, por darme pena-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Respondió Zara, turbada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-¡Qué bien de ver se te ech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n eso, y en venir tarde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que los celos te hacen guerra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esecha, Zulema amigo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se dolor que te apriet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Aunque escaramuza y paj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veas delante mis puertas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pues soy de peña a sus dueño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uanto para ti de cera-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Zulema algo asegurad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sólo le da por respuesta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744280" y="906480"/>
            <a:ext cx="4033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_¡Plegue a Dios que al mucho curs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no se allane la carrera!-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on esto se parte el moro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humillado la cabez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on intento de mud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aballo, lanza y librea.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02:34:58Z</dcterms:created>
  <dc:creator> </dc:creator>
  <dc:description/>
  <dc:language>en-US</dc:language>
  <cp:lastModifiedBy> </cp:lastModifiedBy>
  <dcterms:modified xsi:type="dcterms:W3CDTF">2007-10-03T03:33:13Z</dcterms:modified>
  <cp:revision>9</cp:revision>
  <dc:subject/>
  <dc:title>Diapositiva 1</dc:title>
</cp:coreProperties>
</file>